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8E2F-F5AE-42C6-BC24-DE40C7217D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39BF-390A-4376-802B-6856C794E7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1ACA-70D9-4D85-9038-B60BD93BBA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2DCE-7EA6-4506-8A1C-6AF16FBBF6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6E57-4D72-4BC6-8EAF-4BD623FDAC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8E9C-B7AD-4FED-9FF0-6750240BDC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1A00-A963-4A43-BC16-89376AEDED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4214-3C42-4829-A5C6-13B4E34CF1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71FF-F2C0-40D9-9481-21BC88D160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42F4-0335-477B-B40A-4581A4C8E3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391-DA66-4920-94AD-820BDA42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2AE-F0D4-49D5-BDE2-2338029F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719-F086-42E8-A7E4-0C6666FF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C5A-DEE1-4601-A225-22414F29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A4E4-A17F-4DF1-8C49-80DEC059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7CC4-2AE6-4500-BF91-0626E397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4EF6-2CC6-461F-B9C4-A8365724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3A5A-CE84-41B9-AF5F-E5A0267B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3F03-028D-4F71-92E1-ACE074DF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B61C-F051-46DB-8679-318BE796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D6A2-07E7-41A3-9473-E6E5A073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821-0B08-47AB-B1D6-7439C06D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2E0C-BDF3-4180-9255-790D97A2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CB7F-A708-42AB-8EA1-530143A0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D6F3-ECB7-41CD-9D7C-9002EC0B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2126-A7B3-456D-9C0B-D7B695B8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7D4B-7622-4574-8324-D9B5A17C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BA87F-2A77-48F5-AA45-8AF344C9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735BC-0F36-4F28-A01A-BF9AAABE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D199-C13D-469C-AA0E-7E87B6FE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FF62-D700-406A-A41C-40AD8C04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47CC3-4532-4461-8D65-50F81118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694-75ED-4451-9B4E-6783B5F2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5F16-E9F6-4793-BA64-863B26DE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EF1C3-2EF6-41B0-AE8A-40858ECF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C7F10-4994-429B-875B-2389A3ED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4335F-2397-445D-A12D-536681AA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3AF91-33CF-4473-B079-FB6BF585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37653-8199-4DBF-93A6-F1749CD7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15F4-AC60-4062-B77D-B11C2463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6F9C7-9F1B-4368-8FF3-90D575E3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DEE5C-1C00-446C-8CCF-EAA73FAF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4D6F-351E-4D0D-B3E0-9EFE3966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CE3-C3C3-4CCA-B729-174E5EB2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CDE5A-5C0F-4C8B-8F3A-3BCFB27A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00819-2E52-4A88-AA83-BAE6A930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085B9-EA08-4DCC-92E5-1847CBF6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F57B4-A641-428C-B58A-839E7DAC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C7858-00A7-463D-B19E-DEF35672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614F9-AA7E-453F-8CAF-B3087E38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760F9-0E03-476F-820A-6CCA4E97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55A48-D0E8-4349-96B8-99A341A0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B1770-40F7-436C-96BF-F7F284C0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45C63-4AB6-4DD4-9F53-0753303F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759-5EC5-4B11-B405-165010BE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30A6F-BAC1-4DE1-BE47-ED1F0FB4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73138-ED07-499D-87C0-4EC0BC1C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62729-3625-4F54-9C4C-EBB49039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6E0B4-8C12-40CF-90A3-7E1A0485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D8F0B-DCFF-471A-A977-897522A2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2FA05-3C95-4CA0-A258-A104685C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EA9F9-CC89-409E-AF38-2C23C75B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709B5-6742-493C-846A-3F1A02E0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15942-ECDB-40BF-B6C6-C018A313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D237A-7092-4D65-A549-84AEA343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330-E57A-4019-AEF9-CABB4E41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E471C-3186-4F2C-B988-A134ABE3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1AE41-FE8C-4724-B1EB-BE864126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A718E-4E20-406B-AC79-AE0DD0B6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BCFDE-E0B8-4AD0-8BB9-2FBDB26F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7FBB5-E329-4D6C-947D-CC5392FB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ED583-9FDF-4BC0-9C08-78426FB9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220C0-050B-47BC-8682-C4239F4D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8E7D8-47D5-4849-BC0A-4CED97AF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A0F69-F4FF-4CB8-A234-61D493C8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6E44D-70EF-4786-B2EB-DBEEA892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978-90C0-4240-A7B5-A05D98D1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64D89-E1EC-49B0-A652-55153425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9BB89-2F8F-464A-87E0-DA6E1653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D51F8-43C9-467D-BA67-F326E387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B7056-15BA-46C7-AB7C-BCFE0B18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D37E0-2CA3-4D58-9188-D8EA9108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48DDA-A6A2-4C50-9DE0-B87B1DCB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16CB1-8A75-468F-8787-B0C72DE6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F1A79-9DB8-4B7E-A13E-1BA8196E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6245B-2FB4-4ADD-BC91-2870AE8F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E0F8A-4F81-42D7-82E9-DEBDE639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696-2F02-49A2-B30C-4F3719E2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B1F05-9D45-46BC-9A23-418B2A5C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1617A-7738-4225-9028-97D9DA0E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CD645-3158-465C-8903-D8635F92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8D1BF-B9D6-4240-A138-20557092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06E20-0447-44F4-993A-6FA6FD8C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B08-CC97-409A-9AAF-41A23B00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cfdf8">
              <a:alpha val="33000"/>
            </a:srgbClr>
          </a:solidFill>
          <a:ln cap="rnd" w="3240">
            <a:solidFill>
              <a:srgbClr val="ccce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ceb"/>
            </a:solidFill>
            <a:miter/>
          </a:ln>
          <a:effectLst>
            <a:outerShdw dist="12600" dir="5400000" blurRad="0" rotWithShape="0">
              <a:srgbClr val="aeafa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0b19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054D-8719-4B0B-B256-2A6F05F9FE6E}" type="datetime">
              <a:rPr b="0" lang="ru-RU" sz="1200" spc="-1" strike="noStrike">
                <a:solidFill>
                  <a:srgbClr val="b0b19e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0b19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07C5-1DD0-4141-BF91-03BD3A64B0DD}" type="slidenum">
              <a:rPr b="0" lang="ru-RU" sz="1200" spc="-1" strike="noStrike">
                <a:solidFill>
                  <a:srgbClr val="b0b19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726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cfdf8">
              <a:alpha val="33000"/>
            </a:srgbClr>
          </a:solidFill>
          <a:ln cap="rnd" w="3240">
            <a:solidFill>
              <a:srgbClr val="ccce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ceb"/>
            </a:solidFill>
            <a:miter/>
          </a:ln>
          <a:effectLst>
            <a:outerShdw dist="12600" dir="5400000" blurRad="0" rotWithShape="0">
              <a:srgbClr val="aeafa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726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48f67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0b19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484E-4F14-43A2-8917-1667441E7A54}" type="datetime">
              <a:rPr b="0" lang="ru-RU" sz="1200" spc="-1" strike="noStrike">
                <a:solidFill>
                  <a:srgbClr val="b0b19e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0b19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8C48-2970-4E73-A7EC-371B436015F9}" type="slidenum">
              <a:rPr b="0" lang="ru-RU" sz="1200" spc="-1" strike="noStrike">
                <a:solidFill>
                  <a:srgbClr val="b0b19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726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48f67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0b19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70E2-8067-47AA-A404-594B696E31F1}" type="datetime">
              <a:rPr b="0" lang="ru-RU" sz="1200" spc="-1" strike="noStrike">
                <a:solidFill>
                  <a:srgbClr val="b0b19e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0b19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572B-A3FE-430A-AB1F-C650D349A34C}" type="slidenum">
              <a:rPr b="0" lang="ru-RU" sz="1200" spc="-1" strike="noStrike">
                <a:solidFill>
                  <a:srgbClr val="b0b19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0b19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2ED5-32A5-4674-992C-BD86F7BFA1CB}" type="datetime">
              <a:rPr b="0" lang="ru-RU" sz="1200" spc="-1" strike="noStrike">
                <a:solidFill>
                  <a:srgbClr val="b0b19e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0b19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2989-B963-4D9C-BDF6-3130F83E0B16}" type="slidenum">
              <a:rPr b="0" lang="ru-RU" sz="1200" spc="-1" strike="noStrike">
                <a:solidFill>
                  <a:srgbClr val="b0b19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726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0b19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51D8-5704-408E-A3E4-46D4EC10E9F4}" type="datetime">
              <a:rPr b="0" lang="ru-RU" sz="1200" spc="-1" strike="noStrike">
                <a:solidFill>
                  <a:srgbClr val="b0b19e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0b19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AD53-320A-4718-8227-58FC89639F56}" type="slidenum">
              <a:rPr b="0" lang="ru-RU" sz="1200" spc="-1" strike="noStrike">
                <a:solidFill>
                  <a:srgbClr val="b0b19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0b19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BEFD-B84C-4E76-B3CF-7740E9851165}" type="datetime">
              <a:rPr b="0" lang="ru-RU" sz="1200" spc="-1" strike="noStrike">
                <a:solidFill>
                  <a:srgbClr val="b0b19e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0b19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9890-34C2-4E41-9E14-19010640E208}" type="slidenum">
              <a:rPr b="0" lang="ru-RU" sz="1200" spc="-1" strike="noStrike">
                <a:solidFill>
                  <a:srgbClr val="b0b19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5e7ce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aebde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0b19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AEE5-41D3-45A5-8150-915284AD4A1B}" type="datetime">
              <a:rPr b="0" lang="ru-RU" sz="1200" spc="-1" strike="noStrike">
                <a:solidFill>
                  <a:srgbClr val="b0b19e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0b19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0F6D-BECE-4AF9-8987-1A819AEED6FF}" type="slidenum">
              <a:rPr b="0" lang="ru-RU" sz="1200" spc="-1" strike="noStrike">
                <a:solidFill>
                  <a:srgbClr val="b0b19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561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Реализация проектов инициативного бюджетирования</a:t>
            </a:r>
            <a:r>
              <a:rPr b="1" i="1" lang="ru-RU" sz="36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в Пермском крае</a:t>
            </a:r>
            <a:endParaRPr b="0" lang="en-US" sz="3600" spc="-1" strike="noStrike">
              <a:solidFill>
                <a:srgbClr val="696d52"/>
              </a:solidFill>
              <a:latin typeface="Corbel"/>
            </a:endParaRPr>
          </a:p>
        </p:txBody>
      </p:sp>
      <p:pic>
        <p:nvPicPr>
          <p:cNvPr id="326" name="Picture 15" descr=""/>
          <p:cNvPicPr/>
          <p:nvPr/>
        </p:nvPicPr>
        <p:blipFill>
          <a:blip r:embed="rId1"/>
          <a:stretch/>
        </p:blipFill>
        <p:spPr>
          <a:xfrm>
            <a:off x="179280" y="65160"/>
            <a:ext cx="684360" cy="990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76000" y="4436640"/>
            <a:ext cx="7405560" cy="1824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Министерство территориального развития Пермского кра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96d52"/>
                </a:solidFill>
                <a:latin typeface="Times New Roman"/>
                <a:ea typeface="Times New Roman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971640" y="2830680"/>
            <a:ext cx="819612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49772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6d52"/>
                </a:solidFill>
                <a:latin typeface="Corbel"/>
              </a:rPr>
              <a:t>Идеология мероприятия </a:t>
            </a:r>
            <a:r>
              <a:rPr b="1" lang="en-US" sz="1600" spc="-1" strike="noStrike">
                <a:solidFill>
                  <a:srgbClr val="696d52"/>
                </a:solidFill>
                <a:latin typeface="Gill Sans MT"/>
              </a:rPr>
              <a:t>“</a:t>
            </a:r>
            <a:r>
              <a:rPr b="1" lang="ru-RU" sz="1600" spc="-1" strike="noStrike">
                <a:solidFill>
                  <a:srgbClr val="696d52"/>
                </a:solidFill>
                <a:latin typeface="Corbel"/>
              </a:rPr>
              <a:t>Предоставление субсидий на софинансирование проектов инициативного бюджетирования</a:t>
            </a:r>
            <a:r>
              <a:rPr b="1" lang="en-US" sz="1600" spc="-1" strike="noStrike">
                <a:solidFill>
                  <a:srgbClr val="696d52"/>
                </a:solidFill>
                <a:latin typeface="Gill Sans MT"/>
              </a:rPr>
              <a:t>”</a:t>
            </a:r>
            <a:r>
              <a:rPr b="1" lang="ru-RU" sz="1600" spc="-1" strike="noStrike">
                <a:solidFill>
                  <a:srgbClr val="696d52"/>
                </a:solidFill>
                <a:latin typeface="Corbel"/>
              </a:rPr>
              <a:t>  </a:t>
            </a:r>
            <a:br>
              <a:rPr sz="1600"/>
            </a:br>
            <a:r>
              <a:rPr b="1" lang="ru-RU" sz="1600" spc="-1" strike="noStrike">
                <a:solidFill>
                  <a:srgbClr val="696d52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DDD7-A192-4440-9210-DEE633755856}" type="slidenum">
              <a:rPr b="0" lang="ru-RU" sz="1200" spc="-1" strike="noStrike">
                <a:solidFill>
                  <a:srgbClr val="b0b19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5" descr=""/>
          <p:cNvPicPr/>
          <p:nvPr/>
        </p:nvPicPr>
        <p:blipFill>
          <a:blip r:embed="rId1"/>
          <a:stretch/>
        </p:blipFill>
        <p:spPr>
          <a:xfrm>
            <a:off x="179280" y="11160"/>
            <a:ext cx="684360" cy="99072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ая соединительная линия 6"/>
          <p:cNvSpPr/>
          <p:nvPr/>
        </p:nvSpPr>
        <p:spPr>
          <a:xfrm>
            <a:off x="1476360" y="836640"/>
            <a:ext cx="65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15"/>
          <p:cNvGrpSpPr/>
          <p:nvPr/>
        </p:nvGrpSpPr>
        <p:grpSpPr>
          <a:xfrm>
            <a:off x="1049400" y="976320"/>
            <a:ext cx="7702560" cy="4211640"/>
            <a:chOff x="1049400" y="976320"/>
            <a:chExt cx="7702560" cy="4211640"/>
          </a:xfrm>
        </p:grpSpPr>
        <p:sp>
          <p:nvSpPr>
            <p:cNvPr id="334" name="Полилиния 16"/>
            <p:cNvSpPr/>
            <p:nvPr/>
          </p:nvSpPr>
          <p:spPr>
            <a:xfrm>
              <a:off x="3836880" y="1044360"/>
              <a:ext cx="4876920" cy="539640"/>
            </a:xfrm>
            <a:prstGeom prst="pie">
              <a:avLst/>
            </a:prstGeom>
            <a:solidFill>
              <a:srgbClr val="d5e0d6">
                <a:alpha val="90000"/>
              </a:srgbClr>
            </a:solidFill>
            <a:ln w="25560">
              <a:solidFill>
                <a:srgbClr val="d5e0d6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63720" tIns="44640" bIns="44640" anchor="ctr">
              <a:noAutofit/>
            </a:bodyPr>
            <a:p>
              <a:pPr lvl="1" marL="57240" indent="71280" algn="just">
                <a:lnSpc>
                  <a:spcPct val="9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ктивизация участия жителей в определении приоритетов расходования средств местных бюджетов и поддержка инициатив жителей в решении вопросов местного значе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Полилиния 17"/>
            <p:cNvSpPr/>
            <p:nvPr/>
          </p:nvSpPr>
          <p:spPr>
            <a:xfrm>
              <a:off x="1049400" y="976320"/>
              <a:ext cx="2743200" cy="676080"/>
            </a:xfrm>
            <a:prstGeom prst="pie">
              <a:avLst/>
            </a:prstGeom>
            <a:solidFill>
              <a:srgbClr val="72a3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51120" bIns="51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Ц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Полилиния 19"/>
            <p:cNvSpPr/>
            <p:nvPr/>
          </p:nvSpPr>
          <p:spPr>
            <a:xfrm>
              <a:off x="3875040" y="1652400"/>
              <a:ext cx="4876920" cy="742680"/>
            </a:xfrm>
            <a:prstGeom prst="pie">
              <a:avLst/>
            </a:prstGeom>
            <a:solidFill>
              <a:srgbClr val="d5e0d6">
                <a:alpha val="90000"/>
              </a:srgbClr>
            </a:solidFill>
            <a:ln w="25560">
              <a:solidFill>
                <a:srgbClr val="d5e0d6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63720" tIns="44640" bIns="446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2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е эффективности бюджетных расходов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е открытости деятельности органов местного самоуправления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е взаимодействия органов местного самоуправления и населения муниципальных образований Пермского кра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201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Полилиния 20"/>
            <p:cNvSpPr/>
            <p:nvPr/>
          </p:nvSpPr>
          <p:spPr>
            <a:xfrm>
              <a:off x="1049400" y="1685880"/>
              <a:ext cx="2743200" cy="676080"/>
            </a:xfrm>
            <a:prstGeom prst="pie">
              <a:avLst/>
            </a:prstGeom>
            <a:solidFill>
              <a:srgbClr val="72a3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51120" bIns="51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ада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Полилиния 21"/>
            <p:cNvSpPr/>
            <p:nvPr/>
          </p:nvSpPr>
          <p:spPr>
            <a:xfrm>
              <a:off x="1049400" y="2395440"/>
              <a:ext cx="2743200" cy="676080"/>
            </a:xfrm>
            <a:prstGeom prst="pie">
              <a:avLst/>
            </a:prstGeom>
            <a:solidFill>
              <a:srgbClr val="72a3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51120" bIns="5112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Полилиния 22"/>
            <p:cNvSpPr/>
            <p:nvPr/>
          </p:nvSpPr>
          <p:spPr>
            <a:xfrm>
              <a:off x="1049400" y="2395440"/>
              <a:ext cx="2743200" cy="676080"/>
            </a:xfrm>
            <a:prstGeom prst="pie">
              <a:avLst/>
            </a:prstGeom>
            <a:solidFill>
              <a:srgbClr val="72a3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51120" bIns="51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рок реализации проек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Полилиния 23"/>
            <p:cNvSpPr/>
            <p:nvPr/>
          </p:nvSpPr>
          <p:spPr>
            <a:xfrm>
              <a:off x="3836880" y="3071880"/>
              <a:ext cx="4864320" cy="676080"/>
            </a:xfrm>
            <a:prstGeom prst="pie">
              <a:avLst/>
            </a:prstGeom>
            <a:solidFill>
              <a:srgbClr val="d5e0d6">
                <a:alpha val="90000"/>
              </a:srgbClr>
            </a:solidFill>
            <a:ln w="25560">
              <a:solidFill>
                <a:srgbClr val="d5e0d6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63720" tIns="44640" bIns="44640" anchor="ctr">
              <a:noAutofit/>
            </a:bodyPr>
            <a:p>
              <a:pPr lvl="1" indent="7128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,1 % от налоговых и неналоговых доходов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just">
                <a:lnSpc>
                  <a:spcPct val="90000"/>
                </a:lnSpc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усмотренных в бюджете Пермского края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algn="just">
                <a:lnSpc>
                  <a:spcPct val="90000"/>
                </a:lnSpc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i="1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</a:t>
              </a:r>
              <a:r>
                <a:rPr b="1" i="1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тыс.руб.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Полилиния 24"/>
            <p:cNvSpPr/>
            <p:nvPr/>
          </p:nvSpPr>
          <p:spPr>
            <a:xfrm>
              <a:off x="1062000" y="3106800"/>
              <a:ext cx="2743200" cy="674640"/>
            </a:xfrm>
            <a:prstGeom prst="pie">
              <a:avLst/>
            </a:prstGeom>
            <a:solidFill>
              <a:srgbClr val="72a3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51120" bIns="51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бъем средст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Полилиния 25"/>
            <p:cNvSpPr/>
            <p:nvPr/>
          </p:nvSpPr>
          <p:spPr>
            <a:xfrm>
              <a:off x="1062000" y="4407120"/>
              <a:ext cx="2743200" cy="780840"/>
            </a:xfrm>
            <a:prstGeom prst="pie">
              <a:avLst/>
            </a:prstGeom>
            <a:solidFill>
              <a:srgbClr val="72a37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51120" bIns="51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частники проек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Полилиния 38"/>
          <p:cNvSpPr/>
          <p:nvPr/>
        </p:nvSpPr>
        <p:spPr>
          <a:xfrm>
            <a:off x="3851280" y="2470320"/>
            <a:ext cx="4876920" cy="527040"/>
          </a:xfrm>
          <a:prstGeom prst="pie">
            <a:avLst/>
          </a:prstGeom>
          <a:solidFill>
            <a:srgbClr val="d5e0d6">
              <a:alpha val="90000"/>
            </a:srgbClr>
          </a:solidFill>
          <a:ln w="25560">
            <a:solidFill>
              <a:srgbClr val="d5e0d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63720" tIns="44640" bIns="44640" anchor="ctr">
            <a:noAutofit/>
          </a:bodyPr>
          <a:p>
            <a:pPr lvl="1" indent="7128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есяце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олилиния 40"/>
          <p:cNvSpPr/>
          <p:nvPr/>
        </p:nvSpPr>
        <p:spPr>
          <a:xfrm>
            <a:off x="3835440" y="4465800"/>
            <a:ext cx="4892760" cy="758520"/>
          </a:xfrm>
          <a:prstGeom prst="pie">
            <a:avLst/>
          </a:prstGeom>
          <a:solidFill>
            <a:srgbClr val="d5e0d6">
              <a:alpha val="90000"/>
            </a:srgbClr>
          </a:solidFill>
          <a:ln w="25560">
            <a:solidFill>
              <a:srgbClr val="d5e0d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63720" tIns="44640" bIns="44640" anchor="ctr">
            <a:noAutofit/>
          </a:bodyPr>
          <a:p>
            <a:pPr lvl="1" indent="7128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образования (МО) Пермского края: муниципальный район, городской округ, городское/ сельское поселение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indent="7128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и, индивидуальные предприниматели, юридические лица, общественные организации, осуществляющие свою деятельность на территории М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олилиния 41"/>
          <p:cNvSpPr/>
          <p:nvPr/>
        </p:nvSpPr>
        <p:spPr>
          <a:xfrm>
            <a:off x="1081080" y="5300640"/>
            <a:ext cx="2743200" cy="658800"/>
          </a:xfrm>
          <a:prstGeom prst="pie">
            <a:avLst/>
          </a:prstGeom>
          <a:solidFill>
            <a:srgbClr val="72a37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51120" bIns="5112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ера ре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42"/>
          <p:cNvSpPr/>
          <p:nvPr/>
        </p:nvSpPr>
        <p:spPr>
          <a:xfrm>
            <a:off x="3860640" y="5413320"/>
            <a:ext cx="4926240" cy="525600"/>
          </a:xfrm>
          <a:prstGeom prst="pie">
            <a:avLst/>
          </a:prstGeom>
          <a:solidFill>
            <a:srgbClr val="d5e0d6">
              <a:alpha val="90000"/>
            </a:srgbClr>
          </a:solidFill>
          <a:ln w="25560">
            <a:solidFill>
              <a:srgbClr val="d5e0d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63720" tIns="44640" bIns="44640" anchor="ctr">
            <a:noAutofit/>
          </a:bodyPr>
          <a:p>
            <a:pPr lvl="1" indent="7128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местного значения (согласно ФЗ №131)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Таблица 27" descr=""/>
          <p:cNvPicPr/>
          <p:nvPr/>
        </p:nvPicPr>
        <p:blipFill>
          <a:blip r:embed="rId2"/>
          <a:stretch/>
        </p:blipFill>
        <p:spPr>
          <a:xfrm>
            <a:off x="6589800" y="2998800"/>
            <a:ext cx="2157480" cy="719280"/>
          </a:xfrm>
          <a:prstGeom prst="rect">
            <a:avLst/>
          </a:prstGeom>
          <a:ln w="0">
            <a:noFill/>
          </a:ln>
        </p:spPr>
      </p:pic>
      <p:sp>
        <p:nvSpPr>
          <p:cNvPr id="348" name="Полилиния 45"/>
          <p:cNvSpPr/>
          <p:nvPr/>
        </p:nvSpPr>
        <p:spPr>
          <a:xfrm>
            <a:off x="1068480" y="6064200"/>
            <a:ext cx="2743200" cy="658800"/>
          </a:xfrm>
          <a:prstGeom prst="pie">
            <a:avLst/>
          </a:prstGeom>
          <a:solidFill>
            <a:srgbClr val="72a37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51120" bIns="5112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поданных зая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олилиния 46"/>
          <p:cNvSpPr/>
          <p:nvPr/>
        </p:nvSpPr>
        <p:spPr>
          <a:xfrm>
            <a:off x="3860640" y="6137280"/>
            <a:ext cx="4926240" cy="585720"/>
          </a:xfrm>
          <a:prstGeom prst="pie">
            <a:avLst/>
          </a:prstGeom>
          <a:solidFill>
            <a:srgbClr val="d5e0d6">
              <a:alpha val="90000"/>
            </a:srgbClr>
          </a:solidFill>
          <a:ln w="25560">
            <a:solidFill>
              <a:srgbClr val="d5e0d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63720" tIns="44640" bIns="44640" anchor="ctr">
            <a:noAutofit/>
          </a:bodyPr>
          <a:p>
            <a:pPr lvl="1">
              <a:lnSpc>
                <a:spcPct val="90000"/>
              </a:lnSpc>
              <a:spcAft>
                <a:spcPts val="201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4-х заявок от каждого муниципально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олилиния 26"/>
          <p:cNvSpPr/>
          <p:nvPr/>
        </p:nvSpPr>
        <p:spPr>
          <a:xfrm>
            <a:off x="1081080" y="3722760"/>
            <a:ext cx="2743200" cy="657000"/>
          </a:xfrm>
          <a:prstGeom prst="pie">
            <a:avLst/>
          </a:prstGeom>
          <a:solidFill>
            <a:srgbClr val="72a37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51120" bIns="5112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м расходов на оплату работы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проведению экспертиз и привлечению специал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28"/>
          <p:cNvSpPr/>
          <p:nvPr/>
        </p:nvSpPr>
        <p:spPr>
          <a:xfrm>
            <a:off x="3860640" y="3814920"/>
            <a:ext cx="4876920" cy="525240"/>
          </a:xfrm>
          <a:prstGeom prst="pie">
            <a:avLst/>
          </a:prstGeom>
          <a:solidFill>
            <a:srgbClr val="d5e0d6">
              <a:alpha val="90000"/>
            </a:srgbClr>
          </a:solidFill>
          <a:ln w="25560">
            <a:solidFill>
              <a:srgbClr val="d5e0d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63720" tIns="44640" bIns="44640" anchor="ctr">
            <a:noAutofit/>
          </a:bodyPr>
          <a:p>
            <a:pPr lvl="1" indent="7128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% от объема средств на реализаци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indent="7128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ов инициативного бюджетировани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9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ыс.руб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Таблица 29" descr=""/>
          <p:cNvPicPr/>
          <p:nvPr/>
        </p:nvPicPr>
        <p:blipFill>
          <a:blip r:embed="rId3"/>
          <a:stretch/>
        </p:blipFill>
        <p:spPr>
          <a:xfrm>
            <a:off x="6729480" y="3743280"/>
            <a:ext cx="19936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54CC-FBF6-4F79-9FA9-B230E11A675D}" type="slidenum">
              <a:rPr b="0" lang="ru-RU" sz="1200" spc="-1" strike="noStrike">
                <a:solidFill>
                  <a:srgbClr val="b0b19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Объект 4" descr=""/>
          <p:cNvPicPr/>
          <p:nvPr/>
        </p:nvPicPr>
        <p:blipFill>
          <a:blip r:embed="rId1"/>
          <a:stretch/>
        </p:blipFill>
        <p:spPr>
          <a:xfrm>
            <a:off x="1163520" y="1122480"/>
            <a:ext cx="7742520" cy="5406840"/>
          </a:xfrm>
          <a:prstGeom prst="rect">
            <a:avLst/>
          </a:prstGeom>
          <a:ln w="0">
            <a:noFill/>
          </a:ln>
        </p:spPr>
      </p:pic>
      <p:sp>
        <p:nvSpPr>
          <p:cNvPr id="355" name="Заголовок 1"/>
          <p:cNvSpPr/>
          <p:nvPr/>
        </p:nvSpPr>
        <p:spPr>
          <a:xfrm>
            <a:off x="1434960" y="274680"/>
            <a:ext cx="7499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96d52"/>
                </a:solidFill>
                <a:latin typeface="Corbel"/>
              </a:rPr>
              <a:t>Порядок реализации проекта в 2017 г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Стрелка вниз 9" descr=""/>
          <p:cNvPicPr/>
          <p:nvPr/>
        </p:nvPicPr>
        <p:blipFill>
          <a:blip r:embed="rId2"/>
          <a:stretch/>
        </p:blipFill>
        <p:spPr>
          <a:xfrm>
            <a:off x="-30240" y="1743120"/>
            <a:ext cx="1060560" cy="451800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ая соединительная линия 10"/>
          <p:cNvSpPr/>
          <p:nvPr/>
        </p:nvSpPr>
        <p:spPr>
          <a:xfrm>
            <a:off x="1476360" y="836640"/>
            <a:ext cx="65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5" descr=""/>
          <p:cNvPicPr/>
          <p:nvPr/>
        </p:nvPicPr>
        <p:blipFill>
          <a:blip r:embed="rId3"/>
          <a:stretch/>
        </p:blipFill>
        <p:spPr>
          <a:xfrm>
            <a:off x="165240" y="30240"/>
            <a:ext cx="684000" cy="9903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2"/>
          <p:cNvSpPr/>
          <p:nvPr/>
        </p:nvSpPr>
        <p:spPr>
          <a:xfrm>
            <a:off x="7020000" y="5373720"/>
            <a:ext cx="1784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12 месяцев </a:t>
            </a:r>
            <a:br>
              <a:rPr sz="1600"/>
            </a:br>
            <a:r>
              <a:rPr b="1" lang="ru-RU" sz="1000" spc="-1" strike="noStrike">
                <a:solidFill>
                  <a:srgbClr val="000000"/>
                </a:solidFill>
                <a:latin typeface="Corbel"/>
              </a:rPr>
              <a:t>с момента подписания Соглаш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Арка 6"/>
          <p:cNvSpPr/>
          <p:nvPr/>
        </p:nvSpPr>
        <p:spPr>
          <a:xfrm>
            <a:off x="6516720" y="5095800"/>
            <a:ext cx="1179360" cy="503280"/>
          </a:xfrm>
          <a:prstGeom prst="pi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BBED-48F1-48EC-8E07-DB98083601C1}" type="slidenum">
              <a:rPr b="0" lang="ru-RU" sz="1200" spc="-1" strike="noStrike">
                <a:solidFill>
                  <a:srgbClr val="b0b19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Объект 5" descr=""/>
          <p:cNvPicPr/>
          <p:nvPr/>
        </p:nvPicPr>
        <p:blipFill>
          <a:blip r:embed="rId1"/>
          <a:stretch/>
        </p:blipFill>
        <p:spPr>
          <a:xfrm>
            <a:off x="1311120" y="1017720"/>
            <a:ext cx="7643880" cy="5511600"/>
          </a:xfrm>
          <a:prstGeom prst="rect">
            <a:avLst/>
          </a:prstGeom>
          <a:ln w="0">
            <a:noFill/>
          </a:ln>
        </p:spPr>
      </p:pic>
      <p:sp>
        <p:nvSpPr>
          <p:cNvPr id="363" name="Заголовок 1"/>
          <p:cNvSpPr/>
          <p:nvPr/>
        </p:nvSpPr>
        <p:spPr>
          <a:xfrm>
            <a:off x="1434960" y="274680"/>
            <a:ext cx="7499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96d52"/>
                </a:solidFill>
                <a:latin typeface="Corbel"/>
              </a:rPr>
              <a:t>Предоставление субсид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6"/>
          <p:cNvSpPr/>
          <p:nvPr/>
        </p:nvSpPr>
        <p:spPr>
          <a:xfrm>
            <a:off x="1476360" y="836640"/>
            <a:ext cx="65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5" descr=""/>
          <p:cNvPicPr/>
          <p:nvPr/>
        </p:nvPicPr>
        <p:blipFill>
          <a:blip r:embed="rId2"/>
          <a:stretch/>
        </p:blipFill>
        <p:spPr>
          <a:xfrm>
            <a:off x="179280" y="96840"/>
            <a:ext cx="684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1248-8337-4FFA-AD40-FEE1E4FE8AD3}" type="slidenum">
              <a:rPr b="0" lang="ru-RU" sz="1200" spc="-1" strike="noStrike">
                <a:solidFill>
                  <a:srgbClr val="b0b19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Заголовок 1"/>
          <p:cNvSpPr/>
          <p:nvPr/>
        </p:nvSpPr>
        <p:spPr>
          <a:xfrm>
            <a:off x="1476360" y="203040"/>
            <a:ext cx="7497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96d52"/>
                </a:solidFill>
                <a:latin typeface="Corbel"/>
              </a:rPr>
              <a:t>Методика распределения средств на 2017 г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7"/>
          <p:cNvSpPr/>
          <p:nvPr/>
        </p:nvSpPr>
        <p:spPr>
          <a:xfrm>
            <a:off x="1476360" y="836640"/>
            <a:ext cx="65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5" descr=""/>
          <p:cNvPicPr/>
          <p:nvPr/>
        </p:nvPicPr>
        <p:blipFill>
          <a:blip r:embed="rId1"/>
          <a:stretch/>
        </p:blipFill>
        <p:spPr>
          <a:xfrm>
            <a:off x="179280" y="57240"/>
            <a:ext cx="684360" cy="99036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17"/>
          <p:cNvSpPr/>
          <p:nvPr/>
        </p:nvSpPr>
        <p:spPr>
          <a:xfrm>
            <a:off x="1476360" y="922320"/>
            <a:ext cx="74008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Georgia"/>
                <a:ea typeface="Times New Roman"/>
              </a:rPr>
              <a:t>Объем средств: 85 870,69 тыс.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ятиугольник 15"/>
          <p:cNvSpPr/>
          <p:nvPr/>
        </p:nvSpPr>
        <p:spPr>
          <a:xfrm>
            <a:off x="565200" y="5511960"/>
            <a:ext cx="1701720" cy="73008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66" y="0"/>
                </a:lnTo>
                <a:lnTo>
                  <a:pt x="21600" y="10800"/>
                </a:lnTo>
                <a:lnTo>
                  <a:pt x="169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ff5ef"/>
          </a:solidFill>
          <a:ln w="2556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Georgia"/>
              </a:rPr>
              <a:t>Городские округ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ятиугольник 16"/>
          <p:cNvSpPr/>
          <p:nvPr/>
        </p:nvSpPr>
        <p:spPr>
          <a:xfrm>
            <a:off x="627120" y="1628640"/>
            <a:ext cx="1641240" cy="576360"/>
          </a:xfrm>
          <a:custGeom>
            <a:avLst/>
            <a:gdLst>
              <a:gd name="textAreaLeft" fmla="*/ 0 w 1641240"/>
              <a:gd name="textAreaRight" fmla="*/ 1641600 w 16412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9" y="0"/>
                </a:lnTo>
                <a:lnTo>
                  <a:pt x="21600" y="10800"/>
                </a:lnTo>
                <a:lnTo>
                  <a:pt x="178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ff5ef"/>
          </a:solidFill>
          <a:ln w="2556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Georgia"/>
              </a:rPr>
              <a:t>Городские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Georgia"/>
              </a:rPr>
              <a:t>посе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19"/>
          <p:cNvSpPr/>
          <p:nvPr/>
        </p:nvSpPr>
        <p:spPr>
          <a:xfrm>
            <a:off x="2581200" y="1628640"/>
            <a:ext cx="6296040" cy="1229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 более 4-х заявок (проект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  <a:ea typeface="Times New Roman"/>
              </a:rPr>
              <a:t>Максимальная сумма софинансирования из бюджета Пермского края не более 2,0 млн. руб. на все 4 заявки (проект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11"/>
          <p:cNvSpPr/>
          <p:nvPr/>
        </p:nvSpPr>
        <p:spPr>
          <a:xfrm>
            <a:off x="2532240" y="4724280"/>
            <a:ext cx="6295680" cy="136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 более 4-х заявок (проект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  <a:ea typeface="Times New Roman"/>
              </a:rPr>
              <a:t>Максимальная сумма софинансирования из бюджета Пермского края  не более 4,0 млн. руб. на все 4 заявки (проект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ятиугольник 13"/>
          <p:cNvSpPr/>
          <p:nvPr/>
        </p:nvSpPr>
        <p:spPr>
          <a:xfrm>
            <a:off x="609480" y="2359080"/>
            <a:ext cx="1676520" cy="6811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12" y="0"/>
                </a:lnTo>
                <a:lnTo>
                  <a:pt x="21600" y="10800"/>
                </a:lnTo>
                <a:lnTo>
                  <a:pt x="172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ff5ef"/>
          </a:solidFill>
          <a:ln w="2556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Georgia"/>
              </a:rPr>
              <a:t>Сельские посе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ятиугольник 14"/>
          <p:cNvSpPr/>
          <p:nvPr/>
        </p:nvSpPr>
        <p:spPr>
          <a:xfrm>
            <a:off x="565200" y="4557600"/>
            <a:ext cx="1701720" cy="6685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59" y="0"/>
                </a:lnTo>
                <a:lnTo>
                  <a:pt x="21600" y="10800"/>
                </a:lnTo>
                <a:lnTo>
                  <a:pt x="173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ff5ef"/>
          </a:solidFill>
          <a:ln w="2556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Georgia"/>
              </a:rPr>
              <a:t>Муниципальные райо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Схема 9" descr=""/>
          <p:cNvPicPr/>
          <p:nvPr/>
        </p:nvPicPr>
        <p:blipFill>
          <a:blip r:embed="rId2"/>
          <a:stretch/>
        </p:blipFill>
        <p:spPr>
          <a:xfrm>
            <a:off x="2693880" y="2998800"/>
            <a:ext cx="1378080" cy="1085760"/>
          </a:xfrm>
          <a:prstGeom prst="rect">
            <a:avLst/>
          </a:prstGeom>
          <a:ln w="0">
            <a:noFill/>
          </a:ln>
        </p:spPr>
      </p:pic>
      <p:sp>
        <p:nvSpPr>
          <p:cNvPr id="378" name="Овал 20"/>
          <p:cNvSpPr/>
          <p:nvPr/>
        </p:nvSpPr>
        <p:spPr>
          <a:xfrm>
            <a:off x="1824120" y="2957400"/>
            <a:ext cx="1415880" cy="130176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1"/>
          <p:cNvSpPr/>
          <p:nvPr/>
        </p:nvSpPr>
        <p:spPr>
          <a:xfrm>
            <a:off x="1847880" y="3203640"/>
            <a:ext cx="136836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 численностью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до 1000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Овал 22"/>
          <p:cNvSpPr/>
          <p:nvPr/>
        </p:nvSpPr>
        <p:spPr>
          <a:xfrm>
            <a:off x="3328920" y="2992320"/>
            <a:ext cx="1474920" cy="126684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Овал 23"/>
          <p:cNvSpPr/>
          <p:nvPr/>
        </p:nvSpPr>
        <p:spPr>
          <a:xfrm>
            <a:off x="4932360" y="3041640"/>
            <a:ext cx="1368360" cy="121752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Овал 24"/>
          <p:cNvSpPr/>
          <p:nvPr/>
        </p:nvSpPr>
        <p:spPr>
          <a:xfrm>
            <a:off x="6443640" y="3051000"/>
            <a:ext cx="1368360" cy="1208160"/>
          </a:xfrm>
          <a:prstGeom prst="ellips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5"/>
          <p:cNvSpPr/>
          <p:nvPr/>
        </p:nvSpPr>
        <p:spPr>
          <a:xfrm>
            <a:off x="3382920" y="3211560"/>
            <a:ext cx="1366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 численностью от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1000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 000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6"/>
          <p:cNvSpPr/>
          <p:nvPr/>
        </p:nvSpPr>
        <p:spPr>
          <a:xfrm>
            <a:off x="4927680" y="3243240"/>
            <a:ext cx="1368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 численностью от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 000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5000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7"/>
          <p:cNvSpPr/>
          <p:nvPr/>
        </p:nvSpPr>
        <p:spPr>
          <a:xfrm>
            <a:off x="6462720" y="3300480"/>
            <a:ext cx="136836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 численностью свыше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5000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олилиния 31"/>
          <p:cNvSpPr/>
          <p:nvPr/>
        </p:nvSpPr>
        <p:spPr>
          <a:xfrm rot="19480200">
            <a:off x="2685960" y="1169640"/>
            <a:ext cx="4799160" cy="3497400"/>
          </a:xfrm>
          <a:prstGeom prst="pi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6C29-9860-4842-BE51-55FEF8590B28}" type="slidenum">
              <a:rPr b="0" lang="ru-RU" sz="1200" spc="-1" strike="noStrike">
                <a:solidFill>
                  <a:srgbClr val="b0b19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5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684000" cy="99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"/>
          <p:cNvGraphicFramePr/>
          <p:nvPr/>
        </p:nvGraphicFramePr>
        <p:xfrm>
          <a:off x="1116000" y="1052640"/>
          <a:ext cx="7889760" cy="5752800"/>
        </p:xfrm>
        <a:graphic>
          <a:graphicData uri="http://schemas.openxmlformats.org/drawingml/2006/table">
            <a:tbl>
              <a:tblPr/>
              <a:tblGrid>
                <a:gridCol w="581040"/>
                <a:gridCol w="730872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крите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ещение информации о проекте в СМИ и/или размещение полиграфической продукции: листовки, объявления: приглашение к участию местных жителей (до собрания гражда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И: местное телевидение, интернет, периодические издания (да/не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мероприятий, посвященных предварительному обсуждению проекта (опросные листы, анкеты, предварительные собрания, подомовой обход, в группе в соц.сетях и тд) (да/не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участия населения в определении проблемы, заявленной в проекте (%-ое соотношение кол-ва подписей в поддержку проекта к кол-ву зарегистрированных граждан в МО в кот-м реализуется проект) (опросные листы, анкеты и тд)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видео и/или аудиозаписи с собрания жителей на котором решается вопрос по участию в проекте (да/не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финансирования проекта за счет бюджета муниципального образования Пермского края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финансирования проекта за счет средств физических лиц (населения) в денежной форме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финансирования проекта за счет поступлений от юрид.лиц, индив.предпринимателей в денежной форме,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исключением поступлений от предприятий и организаций муниц.формы собственности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предусматривает мероприятия, связанные с обустройством территории населенного пункта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льный вес населения, получающих выгоду от реализации проекта (прямых благополучателей)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рок жизни» результатов проекта (до года, от 1 до 5 лет, свыше 5 ле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населения (неоплачиваемый труд, материалы и др) в реализации проекта (да/не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итогам реализации проекта предусмотрено мероприятие: Торжественное открытие с установлением таблички и освещением в СМИ.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нформация на табличке: проект инициативного бюджетирования, название проекта, год) (да/не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ом предусмотрено дальнейшее его содержание (да/не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енное значение реализации проекта (направленность на достижение конкретной цели, актуальность (острота) проблемы, оригинальность, территориальность, комплексност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проекта в монопрофильном муниципальном образовании (моногорода) (да/не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  <p:sp>
        <p:nvSpPr>
          <p:cNvPr id="390" name="Заголовок 1"/>
          <p:cNvSpPr/>
          <p:nvPr/>
        </p:nvSpPr>
        <p:spPr>
          <a:xfrm>
            <a:off x="1434960" y="274680"/>
            <a:ext cx="7499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96d52"/>
                </a:solidFill>
                <a:latin typeface="Corbel"/>
              </a:rPr>
              <a:t>Оценка проекта. Социально-экономический эфф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11"/>
          <p:cNvSpPr/>
          <p:nvPr/>
        </p:nvSpPr>
        <p:spPr>
          <a:xfrm>
            <a:off x="1476360" y="836640"/>
            <a:ext cx="65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99760" y="189000"/>
            <a:ext cx="744228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6d52"/>
                </a:solidFill>
                <a:latin typeface="Corbel"/>
              </a:rPr>
              <a:t>Особенности реализации мероприятия </a:t>
            </a:r>
            <a:r>
              <a:rPr b="1" lang="en-US" sz="1600" spc="-1" strike="noStrike">
                <a:solidFill>
                  <a:srgbClr val="696d52"/>
                </a:solidFill>
                <a:latin typeface="Gill Sans MT"/>
              </a:rPr>
              <a:t>“</a:t>
            </a:r>
            <a:r>
              <a:rPr b="1" lang="ru-RU" sz="1600" spc="-1" strike="noStrike">
                <a:solidFill>
                  <a:srgbClr val="696d52"/>
                </a:solidFill>
                <a:latin typeface="Corbel"/>
              </a:rPr>
              <a:t>Предоставление субсидий </a:t>
            </a:r>
            <a:br>
              <a:rPr sz="1600"/>
            </a:br>
            <a:r>
              <a:rPr b="1" lang="ru-RU" sz="1600" spc="-1" strike="noStrike">
                <a:solidFill>
                  <a:srgbClr val="696d52"/>
                </a:solidFill>
                <a:latin typeface="Corbel"/>
              </a:rPr>
              <a:t>на софинансирование проектов инициативного бюджетирования</a:t>
            </a:r>
            <a:r>
              <a:rPr b="1" lang="en-US" sz="1600" spc="-1" strike="noStrike">
                <a:solidFill>
                  <a:srgbClr val="696d52"/>
                </a:solidFill>
                <a:latin typeface="Gill Sans MT"/>
              </a:rPr>
              <a:t>”</a:t>
            </a:r>
            <a:r>
              <a:rPr b="1" lang="ru-RU" sz="1600" spc="-1" strike="noStrike">
                <a:solidFill>
                  <a:srgbClr val="696d52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5B08-6A2C-4226-8763-521D07552B59}" type="slidenum">
              <a:rPr b="0" lang="ru-RU" sz="1200" spc="-1" strike="noStrike">
                <a:solidFill>
                  <a:srgbClr val="b0b19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5" descr=""/>
          <p:cNvPicPr/>
          <p:nvPr/>
        </p:nvPicPr>
        <p:blipFill>
          <a:blip r:embed="rId1"/>
          <a:stretch/>
        </p:blipFill>
        <p:spPr>
          <a:xfrm>
            <a:off x="179280" y="11160"/>
            <a:ext cx="684360" cy="99072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ая соединительная линия 6"/>
          <p:cNvSpPr/>
          <p:nvPr/>
        </p:nvSpPr>
        <p:spPr>
          <a:xfrm>
            <a:off x="1476360" y="836640"/>
            <a:ext cx="65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Content Placeholder 2"/>
          <p:cNvSpPr/>
          <p:nvPr/>
        </p:nvSpPr>
        <p:spPr>
          <a:xfrm>
            <a:off x="5364000" y="2637000"/>
            <a:ext cx="3376800" cy="16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2"/>
          <p:cNvSpPr/>
          <p:nvPr/>
        </p:nvSpPr>
        <p:spPr>
          <a:xfrm>
            <a:off x="1258920" y="1001880"/>
            <a:ext cx="3817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1"/>
          <p:cNvSpPr/>
          <p:nvPr/>
        </p:nvSpPr>
        <p:spPr>
          <a:xfrm>
            <a:off x="1476360" y="1338120"/>
            <a:ext cx="7488360" cy="8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Субсидии предоставляются 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Муниципальным образованиям на реализацию проектов, направленных 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на решение вопросов местного зна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12"/>
          <p:cNvSpPr/>
          <p:nvPr/>
        </p:nvSpPr>
        <p:spPr>
          <a:xfrm>
            <a:off x="1476360" y="2565360"/>
            <a:ext cx="7488360" cy="863640"/>
          </a:xfrm>
          <a:prstGeom prst="rect">
            <a:avLst/>
          </a:prstGeom>
          <a:solidFill>
            <a:srgbClr val="e2e3dc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роект 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не должен быть направлен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на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капитальное строительство, строительство, реконструкцию и капитальный ремонт объектов подлежащих проверке достоверности определения сметной стоимости в краевом государственном автономном учреждение «Управление государственной экспертизы Пермского кра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5"/>
          <p:cNvSpPr/>
          <p:nvPr/>
        </p:nvSpPr>
        <p:spPr>
          <a:xfrm>
            <a:off x="1455840" y="3716280"/>
            <a:ext cx="750888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rbel"/>
              </a:rPr>
              <a:t>!!!</a:t>
            </a:r>
            <a:r>
              <a:rPr b="1" lang="ru-RU" sz="12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Если проект направлен на обустройство источников 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не централизованного водоснабжения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(родник, ключ, скважина, колодец), то 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дополнительно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рилагается 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документ, подтверждающий качество воды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6"/>
          <p:cNvSpPr/>
          <p:nvPr/>
        </p:nvSpPr>
        <p:spPr>
          <a:xfrm>
            <a:off x="1449360" y="4869000"/>
            <a:ext cx="7515360" cy="1296720"/>
          </a:xfrm>
          <a:prstGeom prst="rect">
            <a:avLst/>
          </a:prstGeom>
          <a:solidFill>
            <a:srgbClr val="e2e3dc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Обязательно прилагаю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документы, удостоверяющие право муниципальной собственности на имущество, объект(ы) (в том числе земельные участки), на которых будут проводиться работы в рамках проекта или документы, подтверждающие оформление в муниципальную собственность результатов проекта в течение 6 месяце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99760" y="189000"/>
            <a:ext cx="749772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6d52"/>
                </a:solidFill>
                <a:latin typeface="Corbel"/>
              </a:rPr>
              <a:t>Этапы реализации проектов инициативного бюджетирования (ИБ) </a:t>
            </a:r>
            <a:br>
              <a:rPr sz="1600"/>
            </a:br>
            <a:r>
              <a:rPr b="1" lang="ru-RU" sz="1600" spc="-1" strike="noStrike">
                <a:solidFill>
                  <a:srgbClr val="696d52"/>
                </a:solidFill>
                <a:latin typeface="Corbel"/>
              </a:rPr>
              <a:t>в Пермском крае</a:t>
            </a:r>
            <a:endParaRPr b="0" lang="en-US" sz="16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59A2-A8F9-40D8-AB9E-CFCF37E20667}" type="slidenum">
              <a:rPr b="0" lang="ru-RU" sz="1200" spc="-1" strike="noStrike">
                <a:solidFill>
                  <a:srgbClr val="b0b19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5" descr=""/>
          <p:cNvPicPr/>
          <p:nvPr/>
        </p:nvPicPr>
        <p:blipFill>
          <a:blip r:embed="rId1"/>
          <a:stretch/>
        </p:blipFill>
        <p:spPr>
          <a:xfrm>
            <a:off x="179280" y="11160"/>
            <a:ext cx="684360" cy="99072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ая соединительная линия 6"/>
          <p:cNvSpPr/>
          <p:nvPr/>
        </p:nvSpPr>
        <p:spPr>
          <a:xfrm>
            <a:off x="1476360" y="836640"/>
            <a:ext cx="65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5364000" y="2637000"/>
            <a:ext cx="3376800" cy="16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"/>
          <p:cNvSpPr/>
          <p:nvPr/>
        </p:nvSpPr>
        <p:spPr>
          <a:xfrm>
            <a:off x="1258920" y="1001880"/>
            <a:ext cx="3817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2"/>
          <a:stretch/>
        </p:blipFill>
        <p:spPr>
          <a:xfrm>
            <a:off x="1258920" y="1957320"/>
            <a:ext cx="7200720" cy="450072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5"/>
          <p:cNvSpPr/>
          <p:nvPr/>
        </p:nvSpPr>
        <p:spPr>
          <a:xfrm>
            <a:off x="1476360" y="90792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по ИБ Вы можете получить на сайте Министерства территориального развития Пермского края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minter.permkrai.ru/activities/initsiativnoe-byudzhetirovan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1434960" y="1447560"/>
            <a:ext cx="7499520" cy="32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1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EC21-436B-4AE3-92F7-BD07B5906949}" type="slidenum">
              <a:rPr b="0" lang="ru-RU" sz="1200" spc="-1" strike="noStrike">
                <a:solidFill>
                  <a:srgbClr val="b0b19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5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684360" cy="9907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1403280" y="4437000"/>
            <a:ext cx="3168720" cy="15890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3"/>
          <a:stretch/>
        </p:blipFill>
        <p:spPr>
          <a:xfrm>
            <a:off x="6084720" y="1052640"/>
            <a:ext cx="2324160" cy="1738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"/>
          <p:cNvPicPr/>
          <p:nvPr/>
        </p:nvPicPr>
        <p:blipFill>
          <a:blip r:embed="rId4"/>
          <a:stretch/>
        </p:blipFill>
        <p:spPr>
          <a:xfrm>
            <a:off x="6588000" y="4618080"/>
            <a:ext cx="2132280" cy="14079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DSCF0335"/>
          <p:cNvPicPr/>
          <p:nvPr/>
        </p:nvPicPr>
        <p:blipFill>
          <a:blip r:embed="rId5"/>
          <a:stretch/>
        </p:blipFill>
        <p:spPr>
          <a:xfrm>
            <a:off x="1476360" y="1197000"/>
            <a:ext cx="185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04:32:58Z</dcterms:created>
  <dc:creator>Худякова Элина Александровна</dc:creator>
  <dc:description/>
  <dc:language>en-US</dc:language>
  <cp:lastModifiedBy>Киприянова</cp:lastModifiedBy>
  <cp:lastPrinted>2016-11-15T13:24:46Z</cp:lastPrinted>
  <dcterms:modified xsi:type="dcterms:W3CDTF">2017-01-23T05:04:40Z</dcterms:modified>
  <cp:revision>853</cp:revision>
  <dc:subject/>
  <dc:title>О мероприятиях Министерства территориального развития Пермского края,  направленных на развитие и поддержку территориального общественного самоуправления  на 2015-2017гг.</dc:title>
</cp:coreProperties>
</file>